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C626-09B7-47F8-A769-BDBFA9E0D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mmendation domain = extrapolation domain = (here) suitability 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257C-70C4-47DD-A92D-87D39C344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DAFC-39C9-4EAE-9AF1-02BBC54BE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6608-FB32-4DD5-9BE0-746863D67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6B12-7E70-4FE2-B210-F427EF8AA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9140-72EB-4F52-93D6-6413D8849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5784-AB1F-4546-A5E6-09CB2A744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26EC-E176-41AB-8348-8C677E333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FC7F-0831-4103-953A-9E55DD522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9814-9A93-4BE8-89F2-A800D79B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E8CE-10DA-41C6-BB89-207F312C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4D2F-2995-4E44-8F17-EB8980C7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A9F-DDFF-4395-9DA0-C0647FED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CAFE-BFEF-43D9-834F-7FBB5F0A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97F6-10C8-46AC-822F-813A4F63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E8E-C137-4027-8AE4-C41F22A3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498-AB63-4B7D-BF50-018DA691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D65-D56E-4A5B-AE06-FA08FFA5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B5F-7193-4B6D-A473-5619889F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7BB-8B49-4613-9C18-BA115DE0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C1E-08BA-4817-86BD-83FCA0CA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650A-395E-476D-B9BB-AD4DD7505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D:/CPWF2/notes_etc/practices/2011.09.14-practice%20game.x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3 out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 for identification of best-be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and strategy specific “recommendation domain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water investment domains” indicating main constraints and opportunities and pointing to / comparing main investment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mework: a step-wis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4400" y="1542600"/>
            <a:ext cx="8945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haracterisation of RWM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bine practices into landscape-leve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pping recommendation doma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ulti-criteria Evaluation (partly qualit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’s affected (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option r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ikely impacts and trade-offs (socio-economic and environmental impacts at different spatial and temporal sc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rero et al (in prep)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framework for targeting and scaling-out interventions in agricultural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21920"/>
            <a:ext cx="9144000" cy="995400"/>
          </a:xfrm>
          <a:prstGeom prst="rect">
            <a:avLst/>
          </a:prstGeom>
          <a:solidFill>
            <a:srgbClr val="d3572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2f2f2"/>
                </a:solidFill>
                <a:latin typeface="Arial"/>
              </a:rPr>
              <a:t>1. Characterisation of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literature review and expert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679760" y="291456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68000"/>
            <a:ext cx="9144000" cy="949320"/>
          </a:xfrm>
          <a:prstGeom prst="rect">
            <a:avLst/>
          </a:prstGeom>
          <a:solidFill>
            <a:srgbClr val="d3572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2f2f2"/>
                </a:solidFill>
                <a:latin typeface="Arial"/>
              </a:rPr>
              <a:t>2. Combination into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“game” with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6247342426_b98d051b5b"/>
          <p:cNvPicPr/>
          <p:nvPr/>
        </p:nvPicPr>
        <p:blipFill>
          <a:blip r:embed="rId1"/>
          <a:stretch/>
        </p:blipFill>
        <p:spPr>
          <a:xfrm>
            <a:off x="1916280" y="2455920"/>
            <a:ext cx="47624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7800"/>
            <a:ext cx="9144000" cy="1200240"/>
          </a:xfrm>
          <a:prstGeom prst="rect">
            <a:avLst/>
          </a:prstGeom>
          <a:solidFill>
            <a:srgbClr val="d3572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2f2f2"/>
                </a:solidFill>
                <a:latin typeface="Arial"/>
              </a:rPr>
              <a:t>3. Mapping recommendation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overlay to come up with “practice-specific recommendation domai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neation of “landscapes” (watersheds - polyg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practice suitability to the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/OR qu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y-specific recommendation doma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99600"/>
            <a:ext cx="9144000" cy="1017720"/>
          </a:xfrm>
          <a:prstGeom prst="rect">
            <a:avLst/>
          </a:prstGeom>
          <a:solidFill>
            <a:srgbClr val="d3572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2f2f2"/>
                </a:solidFill>
                <a:latin typeface="Arial"/>
              </a:rPr>
              <a:t>4.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, number of people, number of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option studies &amp;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ity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o-economic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imp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V eco-system services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e-o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03040"/>
            <a:ext cx="9144000" cy="1214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icultural Water Investment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406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ies and constraints vary in geographic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  need for and potential success of investment options depends on, a.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-physical characteristics (e.g. access and availability of water, water productivity, seasonality of scarcity, land degradation/ero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access (the access to input/output markets and information has a big influence on the adoption of new technolo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03040"/>
            <a:ext cx="9144000" cy="1214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icultural Water Investment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406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 Stratification of the Blue Nile Basin into areas with similar constraints and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ative advantage for certain agricultural water investmen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cut targeting of policies/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4:19:10Z</dcterms:created>
  <dc:creator>anotenbaert</dc:creator>
  <dc:description/>
  <dc:language>en-US</dc:language>
  <cp:lastModifiedBy>Notenbaert, An (ILRI)</cp:lastModifiedBy>
  <dcterms:modified xsi:type="dcterms:W3CDTF">2012-03-02T14:47:55Z</dcterms:modified>
  <cp:revision>188</cp:revision>
  <dc:subject/>
  <dc:title>Project 3</dc:title>
</cp:coreProperties>
</file>